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42444-BE71-41B7-9202-63D0E56960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50480"/>
            <a:ext cx="822816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16066-6DE8-4546-92B3-6208F3C1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5048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75048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C8C5B-BF94-4478-8D44-A695EF40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452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452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5048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75048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75048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0E7B3-4698-4C08-8081-2E04B03B8C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330CD-BA53-42A1-AAE8-5FE9125B2C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816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50EF4-909A-4F15-9028-D152CC40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04FD6-4642-496F-962F-CCB76C6E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C9DD4-BC74-4B59-8E0C-EBD38CD4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477FD-6EE8-4F4C-8058-B1066A05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0600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557BB-9731-4AFA-ABD1-AEFD532A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5048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87B9B-2F8F-4AF7-AE98-B9229518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816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9F3B2-C9CD-490C-9E28-DCA84ACD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520" y="375048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530D8-466E-4FE7-90F3-2C54C09D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50480"/>
            <a:ext cx="822816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C1AFA-D2FC-420D-AA6C-41801618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50480"/>
            <a:ext cx="822816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9E305-3E87-4864-961F-B92118DA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5048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520" y="375048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18CAF-085D-426E-A8E0-4508EE0F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280" y="160452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1360" y="160452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5048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280" y="375048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1360" y="375048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206D3-A2DA-4CD8-8ED1-6D7AAA9B2E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91122A-D8AB-4063-845D-13167947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816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34C681-D2BD-497A-B6E9-D7BC0304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70BA69-D760-4370-9248-58D0C7D5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76BB05-F36C-4BD3-91F8-70FA2B8C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585DFC-F2B8-4AAD-9A17-09817D8D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441E7-C075-47DD-8442-783F5EEC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30600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5234F4-1693-42B6-9C1D-D22609DE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5048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08EA96-D811-47B8-8429-6E828459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520" y="375048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0FAFF4-D9E5-4162-9FDC-8232156F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50480"/>
            <a:ext cx="822816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E191A2-1A73-4CB2-9536-8B93A2D4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750480"/>
            <a:ext cx="822816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C23455-BFA5-4802-8DC7-2BB8C5A8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5048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520" y="375048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5DC012-E1FE-494A-8859-3FE06122A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280" y="160452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1360" y="160452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75048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280" y="375048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1360" y="3750480"/>
            <a:ext cx="264924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AC38A1-7B74-4BBC-8CA8-DE047FB3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A1400-907C-4422-98BB-9B383240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357D9-EE14-4F2F-BE06-3510F85F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600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66620-0905-427D-8C9B-611D8AE6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5048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3AB7F-3461-4E5C-9C0A-92B981C1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75048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8D653-BB7C-4B40-811D-1A85313A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50480"/>
            <a:ext cx="8228160" cy="1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1B27D-2015-4E61-AF7E-C59FADE6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-32247000"/>
            <a:ext cx="4037040" cy="344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020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858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igh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nth Outline LevelClick to edit Master text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85840">
              <a:lnSpc>
                <a:spcPct val="100000"/>
              </a:lnSpc>
              <a:spcBef>
                <a:spcPts val="363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icrosoft YaHe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100000"/>
              </a:lnSpc>
              <a:spcBef>
                <a:spcPts val="326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icrosoft YaHei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Bef>
                <a:spcPts val="326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»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icrosoft YaHe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marL="43020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858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igh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inth Outline LevelClick to edit Master text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020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858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igh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nth Outline LevelClick to edit Master text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85840">
              <a:lnSpc>
                <a:spcPct val="100000"/>
              </a:lnSpc>
              <a:spcBef>
                <a:spcPts val="363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icrosoft YaHe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100000"/>
              </a:lnSpc>
              <a:spcBef>
                <a:spcPts val="326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icrosoft YaHei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Bef>
                <a:spcPts val="326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»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icrosoft YaHe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15/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BED4E-0E9D-4704-9413-E49686DD8E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91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5/15/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0B605-5970-4995-BE1E-3941842BE5F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816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5"/>
          </p:nvPr>
        </p:nvSpPr>
        <p:spPr>
          <a:xfrm>
            <a:off x="456840" y="605160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6"/>
          </p:nvPr>
        </p:nvSpPr>
        <p:spPr>
          <a:xfrm>
            <a:off x="3127320" y="605160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7"/>
          </p:nvPr>
        </p:nvSpPr>
        <p:spPr>
          <a:xfrm>
            <a:off x="6556320" y="605160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0AF67-9874-488B-96FC-A23C60193E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828880" y="0"/>
            <a:ext cx="9720" cy="6858000"/>
          </a:xfrm>
          <a:prstGeom prst="line">
            <a:avLst/>
          </a:prstGeom>
          <a:ln w="63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18360" y="0"/>
            <a:ext cx="1440" cy="6858000"/>
          </a:xfrm>
          <a:prstGeom prst="line">
            <a:avLst/>
          </a:prstGeom>
          <a:ln w="63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94400" y="487440"/>
            <a:ext cx="24051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33a3a3"/>
                </a:solidFill>
                <a:latin typeface="Comic Sans MS"/>
              </a:rPr>
              <a:t>Renee Ca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65840" y="4116240"/>
            <a:ext cx="2125800" cy="1737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70800" y="4724280"/>
            <a:ext cx="249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32280" y="365040"/>
            <a:ext cx="9716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583320" y="1279440"/>
            <a:ext cx="2193840" cy="2560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675480" y="4297320"/>
            <a:ext cx="2125800" cy="2011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382920" y="3657600"/>
            <a:ext cx="2286000" cy="2193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17880" y="457200"/>
            <a:ext cx="320040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out 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I live in Stantonsburg, 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I have children and grandchildre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I graduated from North Carolina Wesleyan College with a BA in Elementary Educa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274680"/>
            <a:ext cx="2125440" cy="21016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457200" y="434880"/>
            <a:ext cx="2011320" cy="2125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2520" y="3200400"/>
            <a:ext cx="237816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6b6b"/>
                </a:solidFill>
                <a:latin typeface="Comic Sans MS"/>
              </a:rPr>
              <a:t>Conta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6b6b"/>
                </a:solidFill>
                <a:latin typeface="Comic Sans MS"/>
              </a:rPr>
              <a:t>Renee C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6b6b"/>
                </a:solidFill>
                <a:latin typeface="Comic Sans MS"/>
              </a:rPr>
              <a:t>309 Saratoga Str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6b6b"/>
                </a:solidFill>
                <a:latin typeface="Comic Sans MS"/>
              </a:rPr>
              <a:t>Stantonsburg, N.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6b6b"/>
                </a:solidFill>
                <a:latin typeface="Comic Sans MS"/>
              </a:rPr>
              <a:t>252-236-15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828880" y="0"/>
            <a:ext cx="9720" cy="6858000"/>
          </a:xfrm>
          <a:prstGeom prst="line">
            <a:avLst/>
          </a:prstGeom>
          <a:ln w="63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18360" y="0"/>
            <a:ext cx="1440" cy="6858000"/>
          </a:xfrm>
          <a:prstGeom prst="line">
            <a:avLst/>
          </a:prstGeom>
          <a:ln w="63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00800" y="1096920"/>
            <a:ext cx="2666880" cy="67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Must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 like ki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Must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 be versed in a variety of subjects, such as reading, math, science, and social studi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Must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 be highly creati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Must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 appreciate that Elementary school is where the foundation of the future sta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7315200" y="7219080"/>
            <a:ext cx="819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79760" y="766800"/>
            <a:ext cx="382104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0640" y="135000"/>
            <a:ext cx="22701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Why be a teach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4680" y="822240"/>
            <a:ext cx="21337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92960" y="92160"/>
            <a:ext cx="24685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o be an elementary school 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22240" y="500040"/>
            <a:ext cx="919080" cy="639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82520" y="1279440"/>
            <a:ext cx="256068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aching is a challenging job with many unique frustrations, but the rewards of teaching are numerable. Some of the many benefits include the follow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Experience the Joy of Making a Differe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Have a Vocation, Not a Jo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Enjoy Interpersonal Intera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Be a Lifelong Learn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To affect the futu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17880" y="182520"/>
            <a:ext cx="310824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Qualities of an effective teac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Comic Sans MS"/>
                <a:ea typeface="Comic Sans MS"/>
              </a:rPr>
              <a:t>*</a:t>
            </a:r>
            <a:r>
              <a:rPr b="0" lang="en-US" sz="1600" spc="-1" strike="noStrike">
                <a:solidFill>
                  <a:srgbClr val="993366"/>
                </a:solidFill>
                <a:latin typeface="Comic Sans MS"/>
              </a:rPr>
              <a:t>An effective teacher loves to   te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Comic Sans MS"/>
                <a:ea typeface="Comic Sans MS"/>
              </a:rPr>
              <a:t>*</a:t>
            </a:r>
            <a:r>
              <a:rPr b="0" lang="en-US" sz="1600" spc="-1" strike="noStrike">
                <a:solidFill>
                  <a:srgbClr val="993366"/>
                </a:solidFill>
                <a:latin typeface="Comic Sans MS"/>
              </a:rPr>
              <a:t>An effective teach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993366"/>
                </a:solidFill>
                <a:latin typeface="Comic Sans MS"/>
              </a:rPr>
              <a:t>demonstrates a c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993366"/>
                </a:solidFill>
                <a:latin typeface="Comic Sans MS"/>
              </a:rPr>
              <a:t>attitu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Comic Sans MS"/>
                <a:ea typeface="Comic Sans MS"/>
              </a:rPr>
              <a:t>*</a:t>
            </a:r>
            <a:r>
              <a:rPr b="0" lang="en-US" sz="1600" spc="-1" strike="noStrike">
                <a:solidFill>
                  <a:srgbClr val="993366"/>
                </a:solidFill>
                <a:latin typeface="Comic Sans MS"/>
              </a:rPr>
              <a:t>An effective teacher 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993366"/>
                </a:solidFill>
                <a:latin typeface="Comic Sans MS"/>
              </a:rPr>
              <a:t>relate to his or her stud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Comic Sans MS"/>
                <a:ea typeface="Comic Sans MS"/>
              </a:rPr>
              <a:t>*</a:t>
            </a:r>
            <a:r>
              <a:rPr b="0" lang="en-US" sz="1600" spc="-1" strike="noStrike">
                <a:solidFill>
                  <a:srgbClr val="993366"/>
                </a:solidFill>
                <a:latin typeface="Comic Sans MS"/>
              </a:rPr>
              <a:t>An effective teacher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993366"/>
                </a:solidFill>
                <a:latin typeface="Comic Sans MS"/>
              </a:rPr>
              <a:t>willing to think outside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993366"/>
                </a:solidFill>
                <a:latin typeface="Comic Sans MS"/>
              </a:rPr>
              <a:t>Bo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Comic Sans MS"/>
                <a:ea typeface="Comic Sans MS"/>
              </a:rPr>
              <a:t>*An effective teacher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Comic Sans MS"/>
                <a:ea typeface="Comic Sans MS"/>
              </a:rPr>
              <a:t>  </a:t>
            </a:r>
            <a:r>
              <a:rPr b="0" lang="en-US" sz="1600" spc="-1" strike="noStrike">
                <a:solidFill>
                  <a:srgbClr val="993366"/>
                </a:solidFill>
                <a:latin typeface="Comic Sans MS"/>
                <a:ea typeface="Comic Sans MS"/>
              </a:rPr>
              <a:t>proactive rather th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Comic Sans MS"/>
                <a:ea typeface="Comic Sans MS"/>
              </a:rPr>
              <a:t>  </a:t>
            </a:r>
            <a:r>
              <a:rPr b="0" lang="en-US" sz="1600" spc="-1" strike="noStrike">
                <a:solidFill>
                  <a:srgbClr val="993366"/>
                </a:solidFill>
                <a:latin typeface="Comic Sans MS"/>
                <a:ea typeface="Comic Sans MS"/>
              </a:rPr>
              <a:t>Re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Comic Sans MS"/>
                <a:ea typeface="Comic Sans MS"/>
              </a:rPr>
              <a:t>*An effective teacher uses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Comic Sans MS"/>
                <a:ea typeface="Comic Sans MS"/>
              </a:rPr>
              <a:t>  </a:t>
            </a:r>
            <a:r>
              <a:rPr b="0" lang="en-US" sz="1600" spc="-1" strike="noStrike">
                <a:solidFill>
                  <a:srgbClr val="993366"/>
                </a:solidFill>
                <a:latin typeface="Comic Sans MS"/>
                <a:ea typeface="Comic Sans MS"/>
              </a:rPr>
              <a:t>variety of media in the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Comic Sans MS"/>
                <a:ea typeface="Comic Sans MS"/>
              </a:rPr>
              <a:t>  </a:t>
            </a:r>
            <a:r>
              <a:rPr b="0" lang="en-US" sz="1600" spc="-1" strike="noStrike">
                <a:solidFill>
                  <a:srgbClr val="993366"/>
                </a:solidFill>
                <a:latin typeface="Comic Sans MS"/>
                <a:ea typeface="Comic Sans MS"/>
              </a:rPr>
              <a:t>less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97320" y="5241960"/>
            <a:ext cx="1279440" cy="976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7864560" y="1084320"/>
            <a:ext cx="1096920" cy="1201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6594480" y="3530520"/>
            <a:ext cx="2184480" cy="131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lastPrinted>2015-05-20T00:59:01Z</cp:lastPrinted>
  <cp:revision>0</cp:revision>
  <dc:subject/>
  <dc:title/>
</cp:coreProperties>
</file>